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B93AF-A257-4D29-B09A-AC6B5753F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FFA1D-0152-4AED-90FA-7207F9F6F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C0412-0C02-49FA-903B-C83AC2D75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136F-6E90-4E53-B734-0C59D9843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665DC-F980-4A9E-944C-F18936FE2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C2872-FDC7-41DD-A642-987FC7FA7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DFFD1-D5D8-4EA0-9776-1C535E0D3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5B457-8492-4FDC-8A02-9C64B6A53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821E5-0428-482B-A64D-05B42DFA6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69B92-CFB7-4959-8155-E024F4E70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30A20-B40B-40AC-9B69-CF1308582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6B5C5-2F3F-437F-9E09-ED27C6DFE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9DE7-30F6-4563-A719-9ED228B84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3CA1-59C9-4AE5-8907-10849039C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16402-3BC8-4AD1-B2DD-3191923A7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29093-3F2F-4AE6-817E-F22339EE2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61E0B-D64E-4BD7-AC16-06FED4194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8CB9F-FB70-4DAA-8DD7-3E084C03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E8970-EE1F-45D5-986A-9EA40C7D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0D1A-7410-44F2-B638-072814B7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67C3-42EA-40A8-AF1D-1020291E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842B-08CD-4ACF-BD9C-A3065D2D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31F3-3E99-42F1-A8E9-C50DA868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9B34-784F-4FD1-9962-84561A590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E7D4-B79C-49D4-BBAB-A17BB0E95F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A23D-63C1-4660-A89E-AF9F7923EBE4}"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ccecff"/>
                </a:solidFill>
                <a:latin typeface="Arial"/>
              </a:rPr>
              <a:t>Towards the Constitu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tification Issues</a:t>
            </a:r>
            <a:endParaRPr b="0" lang="en-US" sz="4400" spc="-1" strike="noStrike">
              <a:solidFill>
                <a:srgbClr val="ccecff"/>
              </a:solidFill>
              <a:latin typeface="Arial"/>
            </a:endParaRPr>
          </a:p>
        </p:txBody>
      </p:sp>
      <p:sp>
        <p:nvSpPr>
          <p:cNvPr id="230" name=""/>
          <p:cNvSpPr txBox="1"/>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1" name="Rectangle 3"/>
          <p:cNvSpPr/>
          <p:nvPr/>
        </p:nvSpPr>
        <p:spPr>
          <a:xfrm>
            <a:off x="380880" y="1523880"/>
            <a:ext cx="4245120" cy="4572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Federalists</a:t>
            </a:r>
            <a:endParaRPr b="0" lang="en-US" sz="3200" spc="-1" strike="noStrike">
              <a:solidFill>
                <a:srgbClr val="eaeaea"/>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Replace</a:t>
            </a:r>
            <a:r>
              <a:rPr b="0" lang="en-US" sz="2400" spc="-1" strike="noStrike">
                <a:solidFill>
                  <a:srgbClr val="eaeaea"/>
                </a:solidFill>
                <a:latin typeface="Arial"/>
              </a:rPr>
              <a:t> Article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central government</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ople act in their own interest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rrational</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ublic</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economy</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ite, merchant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Rectangle 4"/>
          <p:cNvSpPr/>
          <p:nvPr/>
        </p:nvSpPr>
        <p:spPr>
          <a:xfrm>
            <a:off x="4648320" y="1523880"/>
            <a:ext cx="4244760" cy="49626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Anti-federalists</a:t>
            </a:r>
            <a:endParaRPr b="0" lang="en-US" sz="3200" spc="-1" strike="noStrike">
              <a:solidFill>
                <a:srgbClr val="eaeaea"/>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Keep</a:t>
            </a:r>
            <a:r>
              <a:rPr b="0" lang="en-US" sz="2400" spc="-1" strike="noStrike">
                <a:solidFill>
                  <a:srgbClr val="eaeaea"/>
                </a:solidFill>
                <a:latin typeface="Arial"/>
              </a:rPr>
              <a:t> Article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state government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ople act on behalf of the common good</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ional</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mocrac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rmer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an these differences be resolved?</a:t>
            </a:r>
            <a:endParaRPr b="0" lang="en-US" sz="40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nonymous figure called “Cato” said: </a:t>
            </a:r>
            <a:endParaRPr b="0" lang="en-US" sz="32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For what did you throw off the yoke of Britain and call yourselves independent?  Was it from a disposition fond of change, or to procure new masters?  This new form of national government will be dangerous to your liberty and happiness.”  (Boyer 150).  </a:t>
            </a:r>
            <a:endParaRPr b="0" lang="en-US" sz="2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deralist Pap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ill of R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onstitution is passed</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9 state votes are achieved, North Carolina and Rhode Island reject the vote, but are forced to accept it…New York and Virginia did not ratif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who care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s the big deal about America anyway?</a:t>
            </a:r>
            <a:endParaRPr b="0" lang="en-US" sz="40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anchor="t">
            <a:normAutofit fontScale="98000"/>
          </a:bodyPr>
          <a:p>
            <a:pPr marL="335880" indent="-3358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lize how revolutionary this document actually is and how revolutionary the idea actually is</a:t>
            </a:r>
            <a:endParaRPr b="0" lang="en-US" sz="3200" spc="-1" strike="noStrike">
              <a:solidFill>
                <a:srgbClr val="eaeaea"/>
              </a:solidFill>
              <a:latin typeface="Arial"/>
            </a:endParaRPr>
          </a:p>
          <a:p>
            <a:pPr marL="335880" indent="-3358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was not a perfect document though, and they realize that (loads of arguments about what certain sections mean, how they should be interpreted).  A Civil War with over 600k dead to resolve some of the issues.</a:t>
            </a:r>
            <a:endParaRPr b="0" lang="en-US" sz="3200" spc="-1" strike="noStrike">
              <a:solidFill>
                <a:srgbClr val="eaeaea"/>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id the Constitution address?</a:t>
            </a:r>
            <a:endParaRPr b="0" lang="en-US" sz="40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amble to the Constitution:</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re the Articles of Confederation useful?</a:t>
            </a:r>
            <a:endParaRPr b="0" lang="en-US" sz="4000" spc="-1" strike="noStrike">
              <a:solidFill>
                <a:srgbClr val="ccecff"/>
              </a:solidFill>
              <a:latin typeface="Arial"/>
            </a:endParaRPr>
          </a:p>
        </p:txBody>
      </p:sp>
      <p:sp>
        <p:nvSpPr>
          <p:cNvPr id="21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west Ordinance</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ved out NW “US”</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ed the premise of “New” States w/equal footing</a:t>
            </a:r>
            <a:endParaRPr b="0" lang="en-US" sz="2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nting of money and enduring a depression</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caused the depression?</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s the big deal with printing money?</a:t>
            </a: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vided a Central Government that though weak, could negotiate treat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tility of Articles Continued</a:t>
            </a:r>
            <a:endParaRPr b="0" lang="en-US" sz="4400" spc="-1" strike="noStrike">
              <a:solidFill>
                <a:srgbClr val="ccecff"/>
              </a:solidFill>
              <a:latin typeface="Arial"/>
            </a:endParaRPr>
          </a:p>
        </p:txBody>
      </p:sp>
      <p:sp>
        <p:nvSpPr>
          <p:cNvPr id="216" name="PlaceHolder 2"/>
          <p:cNvSpPr>
            <a:spLocks noGrp="1"/>
          </p:cNvSpPr>
          <p:nvPr>
            <p:ph/>
          </p:nvPr>
        </p:nvSpPr>
        <p:spPr>
          <a:xfrm>
            <a:off x="455400" y="1415520"/>
            <a:ext cx="8226360" cy="4497480"/>
          </a:xfrm>
          <a:prstGeom prst="rect">
            <a:avLst/>
          </a:prstGeom>
          <a:noFill/>
          <a:ln w="0">
            <a:noFill/>
          </a:ln>
        </p:spPr>
        <p:txBody>
          <a:bodyPr anchor="t">
            <a:normAutofit fontScale="97000"/>
          </a:bodyPr>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y’s Rebellion</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rmers in financial crunch, Merchant class (elites) demand repayment</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rievances, Petitions and then…</a:t>
            </a:r>
            <a:endParaRPr b="0" lang="en-US" sz="2400" spc="-1" strike="noStrike">
              <a:solidFill>
                <a:srgbClr val="eaeaea"/>
              </a:solidFill>
              <a:latin typeface="Arial"/>
            </a:endParaRPr>
          </a:p>
          <a:p>
            <a:pPr lvl="3" marL="1551960" indent="-2214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hut down debtor courts and property auctions</a:t>
            </a:r>
            <a:endParaRPr b="0" lang="en-US" sz="1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bellion put down- MA legislature eventually came to aid the farmers</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cern: Not an isolated incident, risk of spreading. </a:t>
            </a:r>
            <a:endParaRPr b="0" lang="en-US" sz="28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Question “ what is the government’s ability to deal with civil unrest and bring about national un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l for the creation of a new order</a:t>
            </a:r>
            <a:endParaRPr b="0" lang="en-US" sz="40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itutional Convention – May of 1787 – to discuss how to improve the Articl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o was actually at the Convent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0"/>
            <a:ext cx="822636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titutional Debates</a:t>
            </a:r>
            <a:endParaRPr b="0" lang="en-US" sz="4400" spc="-1" strike="noStrike">
              <a:solidFill>
                <a:srgbClr val="ccecff"/>
              </a:solidFill>
              <a:latin typeface="Arial"/>
            </a:endParaRPr>
          </a:p>
        </p:txBody>
      </p:sp>
      <p:sp>
        <p:nvSpPr>
          <p:cNvPr id="220" name="PlaceHolder 2"/>
          <p:cNvSpPr>
            <a:spLocks noGrp="1"/>
          </p:cNvSpPr>
          <p:nvPr>
            <p:ph/>
          </p:nvPr>
        </p:nvSpPr>
        <p:spPr>
          <a:xfrm>
            <a:off x="455400" y="762120"/>
            <a:ext cx="8383320" cy="5867280"/>
          </a:xfrm>
          <a:prstGeom prst="rect">
            <a:avLst/>
          </a:prstGeom>
          <a:noFill/>
          <a:ln w="0">
            <a:noFill/>
          </a:ln>
        </p:spPr>
        <p:txBody>
          <a:bodyPr anchor="t">
            <a:normAutofit fontScale="97000"/>
          </a:bodyPr>
          <a:p>
            <a:pPr marL="332640" indent="-33264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the Central Government has power what Sovereignty exists for the States?</a:t>
            </a:r>
            <a:endParaRPr b="0" lang="en-US" sz="2400" spc="-1" strike="noStrike">
              <a:solidFill>
                <a:srgbClr val="eaeaea"/>
              </a:solidFill>
              <a:latin typeface="Arial"/>
            </a:endParaRPr>
          </a:p>
          <a:p>
            <a:pPr lvl="1" marL="720720" indent="-277200">
              <a:lnSpc>
                <a:spcPct val="9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pportioning power btw States/Central Govt.</a:t>
            </a:r>
            <a:endParaRPr b="0" lang="en-US" sz="2000" spc="-1" strike="noStrike">
              <a:solidFill>
                <a:srgbClr val="eaeaea"/>
              </a:solidFill>
              <a:latin typeface="Arial"/>
            </a:endParaRPr>
          </a:p>
          <a:p>
            <a:pPr lvl="2" marL="1108440" indent="-221400">
              <a:lnSpc>
                <a:spcPct val="9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ero-sum game</a:t>
            </a:r>
            <a:endParaRPr b="0" lang="en-US" sz="1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should be relationships btw States?</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should the Central Government be organized?</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cutive Branch- implements laws</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gislative Branch- enact and oversee laws</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udiciary?</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resentative Government?</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w many? How does one get selected/elected?</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rms of office? Qualifications?</a:t>
            </a:r>
            <a:endParaRPr b="0" lang="en-US" sz="2400" spc="-1" strike="noStrike">
              <a:solidFill>
                <a:srgbClr val="eaeaea"/>
              </a:solidFill>
              <a:latin typeface="Arial"/>
            </a:endParaRPr>
          </a:p>
          <a:p>
            <a:pPr marL="332640" indent="-33264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re should the Convention look for idea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cutive Branch</a:t>
            </a:r>
            <a:endParaRPr b="0" lang="en-US" sz="4400" spc="-1" strike="noStrike">
              <a:solidFill>
                <a:srgbClr val="ccecff"/>
              </a:solidFill>
              <a:latin typeface="Arial"/>
            </a:endParaRPr>
          </a:p>
        </p:txBody>
      </p:sp>
      <p:sp>
        <p:nvSpPr>
          <p:cNvPr id="222" name=""/>
          <p:cNvSpPr txBox="1"/>
          <p:nvPr/>
        </p:nvSpPr>
        <p:spPr>
          <a:xfrm>
            <a:off x="455400" y="1598760"/>
            <a:ext cx="8226360" cy="4497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t?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umber?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rm?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hod of selection/election?</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s?</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rganization?</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islative Branch</a:t>
            </a:r>
            <a:endParaRPr b="0" lang="en-US" sz="4400" spc="-1" strike="noStrike">
              <a:solidFill>
                <a:srgbClr val="ccecff"/>
              </a:solidFill>
              <a:latin typeface="Arial"/>
            </a:endParaRPr>
          </a:p>
        </p:txBody>
      </p:sp>
      <p:sp>
        <p:nvSpPr>
          <p:cNvPr id="224" name=""/>
          <p:cNvSpPr txBox="1"/>
          <p:nvPr/>
        </p:nvSpPr>
        <p:spPr>
          <a:xfrm>
            <a:off x="455400" y="1219320"/>
            <a:ext cx="8226360" cy="487656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 every State equal or are some more equal?</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ames Madison proposed the “Virginia Plan” </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vored federalism – (a strong national government)</a:t>
            </a:r>
            <a:endParaRPr b="0" lang="en-US" sz="2400" spc="-1" strike="noStrike">
              <a:solidFill>
                <a:srgbClr val="eaeaea"/>
              </a:solidFill>
              <a:latin typeface="Arial"/>
            </a:endParaRPr>
          </a:p>
          <a:p>
            <a:pPr lvl="3" marL="1600200" indent="-2286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ained 3 branches – executive, judicial, and legislative</a:t>
            </a:r>
            <a:endParaRPr b="0" lang="en-US" sz="1800" spc="-1" strike="noStrike">
              <a:solidFill>
                <a:srgbClr val="eaeaea"/>
              </a:solidFill>
              <a:latin typeface="Arial"/>
            </a:endParaRPr>
          </a:p>
          <a:p>
            <a:pPr lvl="3" marL="1600200" indent="-2286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icameral legislative – voters chose the lower, lower chooses the upper</a:t>
            </a:r>
            <a:endParaRPr b="0" lang="en-US" sz="1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many representatives should be sent from each stat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New Jersey Plan”</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cameral – all states would be equally represented</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omises:</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anchor="t">
            <a:normAutofit fontScale="93000"/>
          </a:bodyPr>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eat Compromise – crafted by Roger Sherman</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ttled dispute between Virginia and NJ</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cameral system with two types of representation</a:t>
            </a:r>
            <a:endParaRPr b="0" lang="en-US" sz="2400" spc="-1" strike="noStrike">
              <a:solidFill>
                <a:srgbClr val="eaeaea"/>
              </a:solidFill>
              <a:latin typeface="Arial"/>
            </a:endParaRPr>
          </a:p>
          <a:p>
            <a:pPr lvl="2" marL="1062720" indent="-2124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Lower house is based on population (elected)</a:t>
            </a:r>
            <a:endParaRPr b="0" lang="en-US" sz="2000" spc="-1" strike="noStrike">
              <a:solidFill>
                <a:srgbClr val="eaeaea"/>
              </a:solidFill>
              <a:latin typeface="Arial"/>
            </a:endParaRPr>
          </a:p>
          <a:p>
            <a:pPr lvl="2" marL="1062720" indent="-2124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pper house – all have an equal share (selected by State)</a:t>
            </a:r>
            <a:endParaRPr b="0" lang="en-US" sz="2000" spc="-1" strike="noStrike">
              <a:solidFill>
                <a:srgbClr val="eaeaea"/>
              </a:solidFill>
              <a:latin typeface="Arial"/>
            </a:endParaRPr>
          </a:p>
          <a:p>
            <a:pPr lvl="3" marL="1275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Unelected </a:t>
            </a:r>
            <a:r>
              <a:rPr b="0" lang="en-US" sz="1600" spc="-1" strike="noStrike">
                <a:solidFill>
                  <a:srgbClr val="eaeaea"/>
                </a:solidFill>
                <a:latin typeface="Arial"/>
              </a:rPr>
              <a:t>Senate more powerful than </a:t>
            </a:r>
            <a:r>
              <a:rPr b="1" lang="en-US" sz="1600" spc="-1" strike="noStrike">
                <a:solidFill>
                  <a:srgbClr val="eaeaea"/>
                </a:solidFill>
                <a:latin typeface="Arial"/>
              </a:rPr>
              <a:t>elected </a:t>
            </a:r>
            <a:r>
              <a:rPr b="0" lang="en-US" sz="1600" spc="-1" strike="noStrike">
                <a:solidFill>
                  <a:srgbClr val="eaeaea"/>
                </a:solidFill>
                <a:latin typeface="Arial"/>
              </a:rPr>
              <a:t>House</a:t>
            </a:r>
            <a:endParaRPr b="0" lang="en-US" sz="1600" spc="-1" strike="noStrike">
              <a:solidFill>
                <a:srgbClr val="eaeaea"/>
              </a:solidFill>
              <a:latin typeface="Arial"/>
            </a:endParaRPr>
          </a:p>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eatest Compromise</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s will count as 3/5 of a person</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y did such an agreement have to be made?</a:t>
            </a:r>
            <a:endParaRPr b="0" lang="en-US" sz="2400" spc="-1" strike="noStrike">
              <a:solidFill>
                <a:srgbClr val="eaeaea"/>
              </a:solidFill>
              <a:latin typeface="Arial"/>
            </a:endParaRPr>
          </a:p>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cessions related to slavery:</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 trade could exist until 1807</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 owners could cross state lines for runaway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roval of the Constitution</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eded 9 out of 13 vot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merican outrag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ederalists – strong national government that would assure a sound currency and protect property rights (Wealthy merchants, planters, and lawyer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ti-federalists – feared a powerful national government – they didn’t like that: </a:t>
            </a:r>
            <a:endParaRPr b="0" lang="en-US" sz="28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legates made decisions in private</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tes rights were being diminished</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w system resembled a monarchy</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3:08:51Z</dcterms:created>
  <dc:creator>Darien Public Schools</dc:creator>
  <dc:description/>
  <dc:language>en-US</dc:language>
  <cp:lastModifiedBy>Local User</cp:lastModifiedBy>
  <dcterms:modified xsi:type="dcterms:W3CDTF">2016-11-07T17:45:02Z</dcterms:modified>
  <cp:revision>11</cp:revision>
  <dc:subject/>
  <dc:title>Towards the Constitution</dc:title>
</cp:coreProperties>
</file>